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9D8-5F69-4F76-8008-5387322E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EE9-4992-4E45-9D65-674A2B41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AB3F-AD8D-4582-B03D-8D81B69F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FBB-D329-4DA0-A765-65A2F3AC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A220-09FC-45B0-9FA7-489EF86E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7303-47C7-484B-8657-57A17847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3B2F-8955-49A0-A83C-F26B4674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C77F-CD83-4243-A6EB-D27AFC54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1C7D-FB45-47EE-B31F-54C24145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448B-B68A-44C5-88C5-376D8FAD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7598-E887-4B40-9C44-15ED37BE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F8ED-4FBA-482F-AC13-4CB745A1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B5EF-7935-4119-8005-7227ED23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B8A3-79C4-4EEB-A8CA-DDA709B1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6FB2-0234-4686-A8C8-2289D763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3872-08A4-4046-BA94-42F70865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96C7-C1A2-446D-B9F8-9A160406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DD9-DAAC-4D11-BC6D-03045675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1C63-7AA9-4F3F-A18E-7752D165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193-4BEE-471E-95BD-56E0A7B0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D7FF-1A13-4795-B459-B8AA5A88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38B5-EBC0-4AF7-9323-9314F123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9EF-0487-457F-810A-143946A0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50A-B5D9-4CAE-A5D8-DF75B352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AD11-BDA4-4DD9-A7F2-410070E6B09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84F0-922F-4298-B4D2-E75D0D4F79F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../../Local%20Settings/Temp/Al%20Bayan%20research%20Gantt.doc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ourse: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Fundamentals of Research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: The Nature of Research: What is Resear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o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Understanding Meaning of Research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Research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Research: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undamental/pu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earch) advancement of knowledge and the theoretical understanding of the relations among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ing Researches (customer retention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ientific Resear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Research (benchmarking, brand-positioning, omnibus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a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Resear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hods of Research/Surveys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litativ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are more understandable for people not statistically trai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better encompass personal change over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lect the first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understanding of psychological influ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ly used to investigate an issue deeply with regards to relevant behaviour and attitu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hods of Research/Surveys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ntitativ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d for mass investi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used to have a complete picture of a person’s patte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rd simple information on the incidence of attitudes, meanings and perceptions among the po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are numbers/stat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ead can be deadly 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 on page 10  and answer to questions on page 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 on page 12 and answer questions on page 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ure and types of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arch vs. Journal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ce of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arch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s of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e these characteristics of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the Research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dde9e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itu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tion discov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f enlighte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Truth, assertion, assumptio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acts or Opinion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More and more women are deciding to give birth at home. A hospital, after all, is not the best place for a baby to 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ity sheet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tion of Resear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studious,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systematic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nquiry or examination, especially a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critical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vestigation or experimentation having for its aim the discovery of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new fac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d their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correct interpretation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r the revision of accepted conclusions, theories, or laws in the light of new discovered fa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earch vs. Journalis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8760" y="1714680"/>
            <a:ext cx="8229600" cy="4411440"/>
          </a:xfrm>
          <a:prstGeom prst="rect">
            <a:avLst/>
          </a:prstGeom>
          <a:solidFill>
            <a:srgbClr val="f3f3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systematic, sceptical, ethics, unbiased, argumentative, methodological, cares for needs/sensitivity/psychology of the participant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urnalis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iece of writing having a main theme written by a person who saw the event or by a person who heard of the e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lities of researchers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biased (strength and limitation of cultural perspective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ept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gnition of facts, attitudes, opinions, beliefs, knowledge claim,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le to judge validity of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earch proc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d6ad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/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question/statements/assump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frame (E.g.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Gan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ollection: desk research for secondary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earch proce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d6ad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collection: surveys/interviews for primary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 questionnai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tegorizing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yzing/interpreting data (E.g. SPSS programm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ing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arch wr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7:39:21Z</dcterms:created>
  <dc:creator>user</dc:creator>
  <dc:description/>
  <dc:language>en-US</dc:language>
  <cp:lastModifiedBy>t.alnuimi</cp:lastModifiedBy>
  <dcterms:modified xsi:type="dcterms:W3CDTF">2008-08-07T10:41:24Z</dcterms:modified>
  <cp:revision>22</cp:revision>
  <dc:subject/>
  <dc:title>Course: Foundamentals of Research</dc:title>
</cp:coreProperties>
</file>